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D6EA-8D8C-47E7-9AF2-1B31839705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E656-A6CF-4F43-A67F-A32539C40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0F7-40A4-46B1-9A50-4FAFA413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A89-4E5E-404B-A0A2-79F29ABC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015-D09D-4E1D-9DCE-4A5FFA8D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876-5328-4D26-BA21-4833B261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10BF-0409-49DB-A505-5C1121F1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1646-974E-4D2F-AC5F-05C98418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521F-776D-4C94-AD08-4D0363DA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164D-C389-4366-A87B-C7D17092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6F0-7DF9-432F-A329-70811E76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8C61-86D5-41C8-88A7-E499518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D155-51FE-40B1-BC85-2C581D0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BDD-C1DE-4984-80B0-DC8501D5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B52F-1421-4C29-BA7E-8BF761AC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AB3C-A9F3-4D8D-BF28-9A47D57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6A8C-F340-43F5-96CC-35D46311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9EEA-2868-49D4-81C9-49945EA9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58CB-3B84-4B06-BDDE-28625DB2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BB0-F8AB-47AA-8B5C-70C3C843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147-5321-434B-B4BA-957E709F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76E-7642-48D6-B68D-48842511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BDA-EA60-47CE-B7F3-13C8A0A9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F77-1BFC-4AB9-87F1-B8BF24B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337-471A-45FA-A065-9D5EC30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329-1E6D-4921-87AD-47E45C64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5302-067A-4517-B53F-F345DB17B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Оформляшки\5e226a3bbf95.png"/>
          <p:cNvPicPr/>
          <p:nvPr/>
        </p:nvPicPr>
        <p:blipFill>
          <a:blip r:embed="rId3"/>
          <a:srcRect l="-872" t="46843" r="5153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136-B5D9-465B-BC44-63218CD39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2" descr=""/>
          <p:cNvPicPr/>
          <p:nvPr/>
        </p:nvPicPr>
        <p:blipFill>
          <a:blip r:embed="rId1"/>
          <a:stretch/>
        </p:blipFill>
        <p:spPr>
          <a:xfrm>
            <a:off x="1609560" y="1182600"/>
            <a:ext cx="6723360" cy="19321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" descr=""/>
          <p:cNvPicPr/>
          <p:nvPr/>
        </p:nvPicPr>
        <p:blipFill>
          <a:blip r:embed="rId2"/>
          <a:stretch/>
        </p:blipFill>
        <p:spPr>
          <a:xfrm>
            <a:off x="2992320" y="4327560"/>
            <a:ext cx="335916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crasota.org/wp-content/uploads/%D0%BA%D0%BE%D1%82%D1%8F%D1%82%D0%B0.jpg"/>
          <p:cNvPicPr/>
          <p:nvPr/>
        </p:nvPicPr>
        <p:blipFill>
          <a:blip r:embed="rId1"/>
          <a:srcRect l="0" t="0" r="0" b="12496"/>
          <a:stretch/>
        </p:blipFill>
        <p:spPr>
          <a:xfrm>
            <a:off x="434880" y="285840"/>
            <a:ext cx="8280360" cy="54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catsbengal.ru/content/document/9/4/3.jpg"/>
          <p:cNvPicPr/>
          <p:nvPr/>
        </p:nvPicPr>
        <p:blipFill>
          <a:blip r:embed="rId1"/>
          <a:stretch/>
        </p:blipFill>
        <p:spPr>
          <a:xfrm>
            <a:off x="1974960" y="49320"/>
            <a:ext cx="5041800" cy="657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462600" y="1143000"/>
            <a:ext cx="835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ошки шесть котят.  Они живу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печке. Слепые котята пища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чут, ищут мать. Кошка корм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х своим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 глаза у котят открою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ыши подрастут. Мать научит 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вить мыш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и сами будут находить с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286000" y="357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шка и котя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286000" y="357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тята и кош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43880" y="1643040"/>
            <a:ext cx="814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адо вначале сказать о котят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едут себя слепые кот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научит котят м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будут жить котята без мате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46040" y="4643280"/>
            <a:ext cx="855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лова для справок: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ходить, скор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драстут, молоко, открою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ловить, шесть.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3432240" y="182520"/>
            <a:ext cx="2822400" cy="1103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722160" y="1928880"/>
            <a:ext cx="805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Arial"/>
              </a:rPr>
              <a:t>Текст изложения : Нефёдова Е. А., Узор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46c0a"/>
                </a:solidFill>
                <a:latin typeface="Arial"/>
              </a:rPr>
              <a:t>«Справочное пособие по русскому языку. 1 клас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Сайт: «Школа АБВ» Елены Берюховой</a:t>
            </a:r>
            <a:r>
              <a:rPr b="1" lang="en-US" sz="2400" spc="-1" strike="noStrike">
                <a:solidFill>
                  <a:srgbClr val="98480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84807"/>
                </a:solidFill>
                <a:latin typeface="Arial"/>
              </a:rPr>
              <a:t>http://www.shkola-abv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D:\клипарты\животные\кот 40.png"/>
          <p:cNvPicPr/>
          <p:nvPr/>
        </p:nvPicPr>
        <p:blipFill>
          <a:blip r:embed="rId2"/>
          <a:stretch/>
        </p:blipFill>
        <p:spPr>
          <a:xfrm>
            <a:off x="3000240" y="385776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7:59Z</dcterms:created>
  <dc:creator>Helen</dc:creator>
  <dc:description/>
  <dc:language>en-US</dc:language>
  <cp:lastModifiedBy>Helen</cp:lastModifiedBy>
  <dcterms:modified xsi:type="dcterms:W3CDTF">2012-04-18T16:12:21Z</dcterms:modified>
  <cp:revision>7</cp:revision>
  <dc:subject/>
  <dc:title>Слайд 1</dc:title>
</cp:coreProperties>
</file>